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700-B6AE-4C32-98F9-FA326515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B74-2C87-4D4E-8746-597D7E59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89E-3412-4857-A238-27D6BB6D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CFC-F2A4-4703-BA89-96C2403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99E-CE7C-4340-A3B7-9661527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39C-9B45-4095-B691-730496A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250-23BF-43AE-B674-E65770AD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D7D-E926-4B02-81E5-BBAECD3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E7E-807F-4145-A41F-0D75188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278-F75D-41E5-ACDB-1B215F2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0DA-2C14-4B08-B30B-F841C27C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548-E51C-4794-941E-488C062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CDE-D9DE-46CC-921A-EB443714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42753" b="0"/>
          <a:stretch/>
        </p:blipFill>
        <p:spPr>
          <a:xfrm>
            <a:off x="4114800" y="457200"/>
            <a:ext cx="452916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09880" y="2971800"/>
            <a:ext cx="1335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57600" y="6248520"/>
            <a:ext cx="133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57600" y="5486400"/>
            <a:ext cx="13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1447920"/>
            <a:ext cx="133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600200"/>
            <a:ext cx="121896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12408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562720"/>
            <a:ext cx="5335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86200" y="6248160"/>
            <a:ext cx="30492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8080" y="138096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750320"/>
            <a:ext cx="3348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(green button  lower left hand cor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5158" t="21878" r="35937" b="22917"/>
          <a:stretch/>
        </p:blipFill>
        <p:spPr>
          <a:xfrm>
            <a:off x="2133720" y="304920"/>
            <a:ext cx="441468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29000" y="2819520"/>
            <a:ext cx="1295280" cy="380880"/>
          </a:xfrm>
          <a:prstGeom prst="wedgeRectCallout">
            <a:avLst>
              <a:gd name="adj1" fmla="val -77328"/>
              <a:gd name="adj2" fmla="val -3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4920" y="3886200"/>
            <a:ext cx="1752480" cy="380880"/>
          </a:xfrm>
          <a:prstGeom prst="wedgeRectCallout">
            <a:avLst>
              <a:gd name="adj1" fmla="val -72555"/>
              <a:gd name="adj2" fmla="val -15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819520"/>
            <a:ext cx="1295280" cy="685800"/>
          </a:xfrm>
          <a:prstGeom prst="wedgeRectCallout">
            <a:avLst>
              <a:gd name="adj1" fmla="val 93870"/>
              <a:gd name="adj2" fmla="val 55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981080"/>
            <a:ext cx="1295280" cy="609840"/>
          </a:xfrm>
          <a:prstGeom prst="wedgeRectCallout">
            <a:avLst>
              <a:gd name="adj1" fmla="val 99143"/>
              <a:gd name="adj2" fmla="val 28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 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429000"/>
            <a:ext cx="1295280" cy="380880"/>
          </a:xfrm>
          <a:prstGeom prst="wedgeRectCallout">
            <a:avLst>
              <a:gd name="adj1" fmla="val 19851"/>
              <a:gd name="adj2" fmla="val -47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523880"/>
            <a:ext cx="1752840" cy="609840"/>
          </a:xfrm>
          <a:prstGeom prst="wedgeRectCallout">
            <a:avLst>
              <a:gd name="adj1" fmla="val -102717"/>
              <a:gd name="adj2" fmla="val -8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724280"/>
            <a:ext cx="1295640" cy="381240"/>
          </a:xfrm>
          <a:prstGeom prst="wedgeRectCallout">
            <a:avLst>
              <a:gd name="adj1" fmla="val -75856"/>
              <a:gd name="adj2" fmla="val 136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209680"/>
            <a:ext cx="1295640" cy="381240"/>
          </a:xfrm>
          <a:prstGeom prst="wedgeRectCallout">
            <a:avLst>
              <a:gd name="adj1" fmla="val -86273"/>
              <a:gd name="adj2" fmla="val 4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37952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41720"/>
            <a:ext cx="2438280" cy="58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drawing program has drawing tools in a toolbox.  You use your mouse to control the tools. The white space, or canvas is the blank area where you create your graph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ush Tool and Color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near the top of the canvas, holding down the left mouse button and dra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ush too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wn to draw a line.  Release the left mouse button to stop draw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he colo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oj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from the color box and your brush will b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00:39Z</dcterms:created>
  <dc:creator>sdawson</dc:creator>
  <dc:description/>
  <dc:language>en-US</dc:language>
  <cp:lastModifiedBy>sdawson</cp:lastModifiedBy>
  <dcterms:modified xsi:type="dcterms:W3CDTF">2008-12-19T15:28:03Z</dcterms:modified>
  <cp:revision>3</cp:revision>
  <dc:subject/>
  <dc:title>Using Paint</dc:title>
</cp:coreProperties>
</file>